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9C6A5-81B4-4861-B222-4B502A00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D4DD-3F0B-475E-9723-A00DD6D5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D1F82-2CF1-4C3A-ABB5-FE04B49B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49A90-89D4-45AF-9EB1-8B993657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8955-38DC-4024-8F39-5BC7F4E4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ABF3-EAAB-4F8B-B17F-B184CF5E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700C-988C-4078-94C5-1FC143E7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CF6F-433D-41C7-90C9-CBA77E86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5D7F-171F-4A46-B084-B64C3F66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E7CF-9764-4F50-B4C3-9D4F8960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1995-2407-46B3-9CD7-53494792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2F2C2-ACB2-48D4-ABB5-199AD22F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566B-9C95-4C90-88A1-514001B2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29EF-0EE7-4784-965D-0DF2CEB6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D3DF-FC57-4493-9680-0545642C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24AD-98BC-487E-A9FA-CF4289BD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AB97-8544-452A-9847-8EF8E920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88B5-C569-48B2-AB96-4C6B12A6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7CC89-3B5D-484D-B085-E510D222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143A-B416-4609-BE40-BB55E782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03EB7-AE51-45ED-A7EC-8FED7142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A8C54-0F29-43C6-972C-C73567CC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10B54-6146-4500-8AD3-161EBA98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5835-B6DA-4A12-9EAB-533B30B8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2C28-5028-426C-A602-4DBD626832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591B-16DA-45C1-929D-A9104BF768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est-driven development and testing of a performance-critical database record-tree balancing applicati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onathan Ma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Report Pres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1/4/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637D-D6CF-4EDE-9273-8D5936C4A9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rogramming language/extens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gramming language: Jav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st known by customer, contractor, and auth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: Eclip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va exten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m4j: XML process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XML configuration fil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g4j: logg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l console output sent using this extens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igurable to enable testing/error  text file logg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Unit: unit tes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avado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B39E-A7B6-414B-9D50-E6719B0D9B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 Over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eck database/user configuration inform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ba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bl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urrent Manag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ired Manag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 of trees associated with each Manag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splay information, request permission to proce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lance all movable tre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70560" indent="-52272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l movable trees moved from current to desired Managers, such that the number of trees associated with each desired Manager is approximately equ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gress information is given during balancing, after comple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3CDC-5D7D-4D0C-99A0-43A0B29B40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pplication Design Detail (Classes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adBalancer.java: executor cla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face with us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tch excep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xecute method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ager.java: models a Manag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tter/setter methods used by TableGroup.jav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ble.java: models a database Ta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tter/setter methods used by TableGroup.jav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bleGroup.java: primary application cla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thods gather information and perform balanc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r configuration fi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XML file containing user configuration inform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9D86-A73C-4A3A-A74D-633A2E7AD0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figuration Fi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config&gt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currentManagers&gt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ID&gt;Current Manager ID 1&lt;/ID&gt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/currentManagers&gt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desiredManagers&gt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ID&gt;Desired Manager ID 1&lt;/ID&gt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/desiredManagers&gt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tables&gt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name&gt;Table Name 1&lt;/name&gt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/tables&gt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databaseInfo&gt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driver&gt;Java database driver name&lt;/driver&gt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url&gt;database URL&lt;/url&gt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id&gt;user ID&lt;/id&gt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password&gt;password&lt;/password&gt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/databaseInfo&gt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/config&gt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956A-7170-4101-BFB4-14952CA763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oadBalancer.ja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7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ontains only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main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method of applica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7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Argument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7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rgs[0]: path to user configuration fil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7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rgs[1]: name of configuration fil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70000"/>
              </a:lnSpc>
              <a:spcBef>
                <a:spcPts val="4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If not included, default of </a:t>
            </a:r>
            <a:r>
              <a:rPr b="1" lang="en-US" sz="1900" spc="-1" strike="noStrike">
                <a:solidFill>
                  <a:srgbClr val="ffffff"/>
                </a:solidFill>
                <a:latin typeface="Garamond"/>
              </a:rPr>
              <a:t>defaultConfig.xml</a:t>
            </a:r>
            <a:r>
              <a:rPr b="0" lang="en-US" sz="1900" spc="-1" strike="noStrike">
                <a:solidFill>
                  <a:srgbClr val="ffffff"/>
                </a:solidFill>
                <a:latin typeface="Garamond"/>
              </a:rPr>
              <a:t> is used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7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Retrieve user information as noted in Overview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7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If database contains tables with requisite fields that aren’t specified by the user, user is notified and prompted to continu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7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how database, table, and current/desired Manager information (IDs and pre-/post-balancing loads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7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User asked if they wish to bala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7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If yes, balancing is done; application aborts if no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7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Final destination of thrown exception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7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tack trace displayed, application abort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bleGroup Information-Gathering (IG) Metho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Unless noted, all information-gathering methods executed only once, before balancin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Garamond"/>
              </a:rPr>
              <a:t>parseConfig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: open/parses user configuration fil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Garamond"/>
              </a:rPr>
              <a:t>openConnection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: establishes Java/database connect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ecks for bad/missing data: if found, error message is displayed and exception is thr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Garamond"/>
              </a:rPr>
              <a:t>setTables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: sets names of database tables to be balanced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trieves/compares all table names from database/configuration fi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bles added to table name/object Ma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ror conditions check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XML table field with no data inside: warn user, but continue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Table name in configuration file but not in database: display error message, throw fatal exception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Duplicate table name in configuration file: warn user, but continue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CB10-61D7-4846-9035-C609FFE799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bleGroup IG methods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heckT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termines whether any balanceable, nonspecified tables exi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urned to LoadBalancer.java for user prompt if s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etParentI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determines which tables could contain child reco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table is searched for th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arent_id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e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table object’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arentI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ield set according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5625-968C-4E91-A926-D4CF9C5FCC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bleGroup IG methods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reatePreparedStateme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creates predefined database stat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ly criteria must be added when statement is ru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gnificantly faster than regular DML stat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paredStatements cre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etrieveR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retrieves IDs of a given number of trees for a  Manag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etrieveMaxUniqueI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retrieves maximum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nique_identifie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for a given Manag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PDATE statement for each table, updating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arent_i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nique_identifie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nd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nager_i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for a given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ree_i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76CF-7F20-48C5-B654-1E1B48D648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bleGroup IG Methods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etCurrentManager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sets names of all current Manag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s/compares Manager IDs in all user-specified tables and current Managers in configuration fi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rror conditions check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lank/duplicate Manager: warn user, but continue execution (blank/duplicate values ignore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nager in configuration file not in user-specified tables: display error message, throw exception which aborts appli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183B-BD52-40B9-9F91-F8169BB2E2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bleGroup IG Methods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Garamond"/>
              </a:rPr>
              <a:t>setDesiredManagers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: sets desired Manager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ager IDs not found in current Managers or user-specified tables are acceptab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uplicate/missing Manager IDs are notified/ignored, as befo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Garamond"/>
              </a:rPr>
              <a:t>setCurrentLoads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: determines number of trees associated with each Manager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Garamond"/>
              </a:rPr>
              <a:t>setNumMovableRecordTrees/setNumMovableRecords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: self-explanator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 of movable records displayed to user just before balanc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 of movable trees used in timing and calculation of status messages during balanc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Garamond"/>
              </a:rPr>
              <a:t>setDesiredLoads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: sets the desired post-balance load for each Manager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ired Managers: number of movable records/number of desired Manag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80000"/>
              </a:lnSpc>
              <a:spcBef>
                <a:spcPts val="425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Remainder is distributed among desired Managers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n-desired Managers: zer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9792-1922-428F-A0C6-FF95FD6E96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0B1A-0A1E-4D71-BABC-94E88DE215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ign, implementation, and testing of a multi-table database record tree balancing appl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application created by the author during a software engineering internsh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mmer 200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rictly Business Computer Systems, In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bleGroup IG Methods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etMaxUniqueID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etMaxUniqueI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determines maximum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ique_identifi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or each Manag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…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D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 calls “…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, for each Manag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…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D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 used only once, in IG st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s split so that “…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” can be called when balancing, such that it is done on only the destination Manag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ogURL, logTableNames, logManagerInf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user information just before balanc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F668-9BB2-4B98-82A7-B59F381358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bleGroup’s </a:t>
            </a: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balance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meth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If current load ≠ desired load for all Managers (</a:t>
            </a:r>
            <a:r>
              <a:rPr b="0" i="1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isBalanced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rting Manager: first Manager with current load &gt; desired load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ending Manager: first Manager with current load &lt; desired load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find minimum of load difference between the two Manager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retrieve that many tree IDs from the starting Manager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for each tree ID and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update all records (</a:t>
            </a:r>
            <a:r>
              <a:rPr b="0" i="1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updateRecordTree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rting and ending Manager information updated (</a:t>
            </a:r>
            <a:r>
              <a:rPr b="0" i="1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updateManagerInfo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7488-2D85-4EDE-BC1B-EB813B1E0F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isBalanced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d </a:t>
            </a: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updateManagerInf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sBalanc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returns true if current load = desired load for all Manag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updateManagerInf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tracts number of trees moved from current load of starting Manager, adds from that of ending Manag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ing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etMaxUniqueI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updates maximum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nique_identifier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 ending Manag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save time, this is not done for the starting Manag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3156-08A5-42BE-A666-45388BACC1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updateRecordT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UPDATE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tableNam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T unique_identifier = unique_identifier + 1 +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axUniqueIdentifier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anager_id =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dManagerID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arent_id = DECODE(parent_id, 0, 0, NULL, 0, parent_id + 1 +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axUniqueIdentifier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 tree_id =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treeI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Courier New"/>
              </a:rPr>
              <a:t>unique_identifier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Courier New"/>
              </a:rPr>
              <a:t> set to itself plus maximum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Courier New"/>
              </a:rPr>
              <a:t>unique_identifier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Courier New"/>
              </a:rPr>
              <a:t> of destination Manag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Courier New"/>
              </a:rPr>
              <a:t>Extra “one” added in case original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Courier New"/>
              </a:rPr>
              <a:t>unique_identifier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Courier New"/>
              </a:rPr>
              <a:t>is zer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Courier New"/>
              </a:rPr>
              <a:t>manager_i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Courier New"/>
              </a:rPr>
              <a:t> set to ID of destination Manag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Courier New"/>
              </a:rPr>
              <a:t>parent_i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Courier New"/>
              </a:rPr>
              <a:t> (if table has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Courier New"/>
              </a:rPr>
              <a:t>parent_i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Courier New"/>
              </a:rPr>
              <a:t> field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Courier New"/>
              </a:rPr>
              <a:t>Root record: kept at zer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Courier New"/>
              </a:rPr>
              <a:t>Child (nonzero) record:  current value plus one plus maximum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Courier New"/>
              </a:rPr>
              <a:t>unique_identifi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64B8-8526-482E-AACB-52E44532BC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updateRecordTree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update statements batched to increase perform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batch maximum for a certain table is reached, all update statements are executed and commit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y experiment, 100 was found to be the fastest batch lim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694F-B2AC-470C-A0A5-C39B643849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form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erformance is critic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illions of records in tabl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base must be taken offline to perform balanc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atabase interaction is main bottleneck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olution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eparedStatem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anager_i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iv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ree_id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de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tching of update statem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ersion_i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unchanged throughout balanc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tting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nique_identifier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to current value + one + maximum value in destination Manag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current execution was attempted and discard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PreparedStatements can only be assigned to one thread at a time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Gain from threading was offset by loss of ability to store DML statements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1BED-9744-401C-9951-C6F8FF759C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al Perform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FA2A-D3D8-443B-8755-31FA56A77B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Chart 5" descr=""/>
          <p:cNvPicPr/>
          <p:nvPr/>
        </p:nvPicPr>
        <p:blipFill>
          <a:blip r:embed="rId1"/>
          <a:stretch/>
        </p:blipFill>
        <p:spPr>
          <a:xfrm>
            <a:off x="378000" y="1292400"/>
            <a:ext cx="831528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s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Integral part of design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Table Records either premade or randomly generated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Tables used in testing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oot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oot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contained roots of trees on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hild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children of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oot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oot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recor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hild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children of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oot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oot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nd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hild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recor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o_chil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contains only root recor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arent_id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r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arent_version_i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field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ot_in_tablenam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contains roots and childr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t included in user-specified tables, to test that non-specified tables are unchang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4E3D-544D-4BD5-8D41-5134E47FC5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sting Table Cre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blesCreator.java: executor cla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tantiates Tables ob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lls Tables’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reateTabl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meth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bles.java: contains table creation metho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EE65-4EC6-4919-A821-6711076B18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bles.java table creation attribu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Garamond"/>
              </a:rPr>
              <a:t>isPremade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true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for premade records,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false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or randomly generated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Garamond"/>
              </a:rPr>
              <a:t>test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: if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true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, creates a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test_id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field, used to compare records before and after balancin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ru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for correctness testing,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als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for performance testing and demonstr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Garamond"/>
              </a:rPr>
              <a:t>numRoots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: number of roots (trees) to be created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Garamond"/>
              </a:rPr>
              <a:t>numRootCreates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i="1" lang="en-US" sz="2200" spc="-1" strike="noStrike">
                <a:solidFill>
                  <a:srgbClr val="ffffff"/>
                </a:solidFill>
                <a:latin typeface="Garamond"/>
              </a:rPr>
              <a:t>numRoots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greater than 100,000 exceeded Java heap spa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numRoot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set to 100,000, then number of times equal to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numRootCreat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Garamond"/>
              </a:rPr>
              <a:t>numManagers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: number of possible current Manager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Garamond"/>
              </a:rPr>
              <a:t>maxNumChild1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200" spc="-1" strike="noStrike">
                <a:solidFill>
                  <a:srgbClr val="ffffff"/>
                </a:solidFill>
                <a:latin typeface="Garamond"/>
              </a:rPr>
              <a:t>maxNumChild2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: maximum number of level-two and level-two/three tree record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Garamond"/>
              </a:rPr>
              <a:t>livePerDead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: ratio of live to not live roots (trees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4E49-09DA-4DC8-AFEB-DA46C6FB99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A5E7-4C56-4BE9-A21B-0DE8AD3FA8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verall Requir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lance trees of records in multiple database t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ees are associated with “Manager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ve” all trees from existing Managers to user-desired Manag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lance movable trees among all desired manag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vable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ists in a user-specified 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“live” (more on this next slid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Premade Recor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57200" y="2666880"/>
          <a:ext cx="2590920" cy="12798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</a:tblGrid>
              <a:tr h="18288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Table na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Abbrevi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root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R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root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R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child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C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child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C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not_in_tablenam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N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no_chi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N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81BD-1674-46E6-AF89-6BA7EC43AA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Picture 261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59108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ndomly Generated Records: Root Recor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New root records randomly assigned to either 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root1</a:t>
            </a: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root2</a:t>
            </a: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no_child</a:t>
            </a: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not_in_tablenames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manager_id</a:t>
            </a: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: “m1”, “m2”,…, ”m</a:t>
            </a:r>
            <a:r>
              <a:rPr b="0" i="1" lang="en-US" sz="2700" spc="-1" strike="noStrike">
                <a:solidFill>
                  <a:srgbClr val="ffffff"/>
                </a:solidFill>
                <a:latin typeface="Garamond"/>
              </a:rPr>
              <a:t>numManagers</a:t>
            </a: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unique_identifier/version_id</a:t>
            </a: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: assigned next available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ot_in_tablenames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ots assigned previously assigned values, to ensure uniqueness testing will catch them if they are consider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tree_id</a:t>
            </a: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: assigned next of “t1”, “t2”,…, ”t</a:t>
            </a:r>
            <a:r>
              <a:rPr b="0" i="1" lang="en-US" sz="2700" spc="-1" strike="noStrike">
                <a:solidFill>
                  <a:srgbClr val="ffffff"/>
                </a:solidFill>
                <a:latin typeface="Garamond"/>
              </a:rPr>
              <a:t>numRoots*numRootCreates</a:t>
            </a: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parent_id</a:t>
            </a: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parent_version_id</a:t>
            </a: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 = 0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live</a:t>
            </a: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: ‘F’ at 1/(</a:t>
            </a:r>
            <a:r>
              <a:rPr b="0" i="1" lang="en-US" sz="2700" spc="-1" strike="noStrike">
                <a:solidFill>
                  <a:srgbClr val="ffffff"/>
                </a:solidFill>
                <a:latin typeface="Garamond"/>
              </a:rPr>
              <a:t>livePerDead</a:t>
            </a: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 + 1) probability, ‘T’ otherwise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Date Placeholder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3C61-A285-4D5A-BBFB-E4FDEF2E98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ndomly Generated Records: child1 (level two) recor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 to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axNumChild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ild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ecords created for each root record not in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o_chi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nager_id/tree_id/liv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same as parent rec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ique_identifier/version_i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assigned next available/same as previous as bef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ent_i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ique_identifi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f par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ent_version_i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ersion_i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f par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8B95-BFD4-4AF3-A722-7EFB325ADD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ndomly Generated Records: child1 (level two/three) recor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0 to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axNumChild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ild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ecords created for each root o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ild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ecord not in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o_chi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nager_id, tree_id, live, unique_identifier, version_id, parent_id, parent_version_i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ssigned as bef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FB41-1F21-4CBE-AB84-6D78522B3D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ord/table creation final consider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Records batched and inserted as in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updateRecordTre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Most common random record creation setting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numManagers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: 3 (three starting Managers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maxNumChild1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: 3 (zero to three possible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child1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records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maxNumChild2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: 3 (zero to three possible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child2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records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Garamond"/>
              </a:rPr>
              <a:t>livePerDead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: 4 (20% chance of dead record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pproximately 2.7 balanceable records per root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C5EA-08A6-47EA-8F46-9333ACB788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Unit Testing cla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Tests.java: overall testing cla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bleTest.java: table creation tes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bleGroupTest.java: testing of information-gathering methods of TableGroup cla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adBalancerTest.java: overall LoadBalancer tes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arious user configuration fi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made and randomly generated reco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5483-E3C9-4D64-A96F-71133D507E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bleTest.ja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ll tests performed on premade records, and ten separate root creation instanc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es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unique_identifier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version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 &gt; 0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root table records (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root1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root2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 ) have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parent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parent_version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 = 0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non-root record tables (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child1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child2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) have nonzero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parent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s and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parent_version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s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manager_id/unique_identifier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version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 combination is unique across all tables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Each tree of records is associated with exactly one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tree_id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Each record is either a root (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parent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parent_version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 = 0), or is related to the root record or its children through parent/child relationships 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User-specified table names are correct (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root1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 root2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 child1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, and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 child2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Number of created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tree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s equal the number specified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manager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live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 value for all records with the same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tree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 is the same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Number of records from all tables equals the number created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Number of distinct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tree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s equals number created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Number of distinct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manager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s equals </a:t>
            </a:r>
            <a:r>
              <a:rPr b="0" i="1" lang="en-US" sz="1500" spc="-1" strike="noStrike">
                <a:solidFill>
                  <a:srgbClr val="ffffff"/>
                </a:solidFill>
                <a:latin typeface="Garamond"/>
              </a:rPr>
              <a:t>numManagers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Both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live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 = true- and false-valued records exist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740D-69F2-480F-BB02-067BA209A5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bleGroupTest.ja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esting configuration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ndard tables, with premade record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ree existing and three (different) desired Manag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est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l records are associated with specified table nam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bles that should contain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arent_id/parent_version_id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fields d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 and names of current and desired Managers is corre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urrent load of each Manager is corre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 of live trees is corre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tal number of records is corre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ired load of each Manager is corre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ximum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nique­_identifier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ssociated with each Manager is corre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2335-7975-4095-B128-1C2103FF33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oadBalancerTest.ja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uns tests using various configuration files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Each test uses both premade and randomly generated records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48 different configuration files, ranging from corrupted files to all existent tables and current Managers, and differing desired Managers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es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Pre- and post-balance table name,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tree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version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parent_version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, and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live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 values same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If record not live or not specified as a table to balance, all other new values equal old ones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Pre- and post-balance values of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parent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 for each root record are identical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Parent-child relationships are preserved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If table has no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parent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, its values of old and new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parent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parent_version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 equal test initialization values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Combination of the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manager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unique_identifier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, and </a:t>
            </a:r>
            <a:r>
              <a:rPr b="1" lang="en-US" sz="1500" spc="-1" strike="noStrike">
                <a:solidFill>
                  <a:srgbClr val="ffffff"/>
                </a:solidFill>
                <a:latin typeface="Garamond"/>
              </a:rPr>
              <a:t>version_id</a:t>
            </a: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 fields are unique throughout all tables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Pre- and post-balance desired loads are equal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Undesired Managers have zero post-balance current loads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Post-balance current and desired loads of desired Managers are equal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2E33-9B1B-4B9F-994E-3E11E934B2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s: 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began in May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rking design by early June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ne/July 2008: Creation of test suite/performance tu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ugust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rrectness/performance requirements m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livered to lead software engineer for final approv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0E57-31DC-4E79-BCA4-5EA497066E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DE55-9371-482D-8D71-AE505FFF65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tabase Record Fiel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ree_i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(varchar2): ID of the tree with which the record is associat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anager_i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(varchar2): the unique ID of the Manager with which the record is associat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art of composite key across all tabl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All records within a tree have the same value of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manager_id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nique_identifi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(number(10)): part  of composite key across all tabl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ersion_i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(number(10)): part of composite key across all tabl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arent_i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(number(10)):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nique_identifi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of the record's parent in the tre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oot records have a value of either 0 or null for this fiel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ome tables do not contain this fiel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arent_version_i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(number(10)):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version_i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of the record's parent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Root records have a value of either 0 or null for this fiel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ome tables do not contain this fiel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iv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(char(1 byte)): indicates whether record can be moved (i.e., is “balanceable”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Either 'T' or 'F‘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All records within the same tree have the same value of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ive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s: Value Obtain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uthor obtained valuable experience in and knowledge of “real-world” software develo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d, tested, and fast application delivered, per customer requir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9C04-0CEF-43AC-B143-63F38F4F3D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clusions: Future 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unique_identifier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overflow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urrent method of record insertion into Managers increases likelihood of database or Java overflow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reate application to move high-valued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unique_identifier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 to lower values, while preserving parent/child relationship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Unmoved trees in non-desired tables or Managers; dead tree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Managers have trees moved from them in preparation for being taken offlin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Create application to move these trees to a “limbo” Manager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CB3D-FAD9-48CD-B378-B72E429C0E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71F1-5667-4BC3-96E2-B7F4E4D0C1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ple Record T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7" name="Organization Chart 22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18" name="_s1028"/>
            <p:cNvCxnSpPr>
              <a:stCxn id="119" idx="0"/>
              <a:endCxn id="120" idx="2"/>
            </p:cNvCxnSpPr>
            <p:nvPr/>
          </p:nvCxnSpPr>
          <p:spPr>
            <a:xfrm flipV="1">
              <a:off x="7635960" y="4423680"/>
              <a:ext cx="2880" cy="562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029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3064680" y="4091760"/>
              <a:ext cx="562320" cy="122580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" name="_s1030"/>
            <p:cNvCxnSpPr>
              <a:stCxn id="125" idx="0"/>
              <a:endCxn id="123" idx="2"/>
            </p:cNvCxnSpPr>
            <p:nvPr/>
          </p:nvCxnSpPr>
          <p:spPr>
            <a:xfrm flipH="1" flipV="1" rot="5400000">
              <a:off x="1839240" y="4091400"/>
              <a:ext cx="562320" cy="122652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031"/>
            <p:cNvCxnSpPr>
              <a:stCxn id="120" idx="0"/>
              <a:endCxn id="127" idx="2"/>
            </p:cNvCxnSpPr>
            <p:nvPr/>
          </p:nvCxnSpPr>
          <p:spPr>
            <a:xfrm flipV="1" rot="16200000">
              <a:off x="6129000" y="1792800"/>
              <a:ext cx="562320" cy="245160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1032"/>
            <p:cNvCxnSpPr>
              <a:stCxn id="129" idx="0"/>
              <a:endCxn id="127" idx="2"/>
            </p:cNvCxnSpPr>
            <p:nvPr/>
          </p:nvCxnSpPr>
          <p:spPr>
            <a:xfrm flipV="1">
              <a:off x="5184720" y="2737800"/>
              <a:ext cx="2880" cy="562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3"/>
            <p:cNvCxnSpPr>
              <a:stCxn id="123" idx="0"/>
              <a:endCxn id="127" idx="2"/>
            </p:cNvCxnSpPr>
            <p:nvPr/>
          </p:nvCxnSpPr>
          <p:spPr>
            <a:xfrm flipH="1" flipV="1" rot="5400000">
              <a:off x="3677760" y="1793160"/>
              <a:ext cx="562320" cy="245160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7" name="_s1034"/>
            <p:cNvSpPr/>
            <p:nvPr/>
          </p:nvSpPr>
          <p:spPr>
            <a:xfrm>
              <a:off x="4134240" y="1614600"/>
              <a:ext cx="2100960" cy="1123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able1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" name="_s1035"/>
            <p:cNvSpPr/>
            <p:nvPr/>
          </p:nvSpPr>
          <p:spPr>
            <a:xfrm>
              <a:off x="1683000" y="3300120"/>
              <a:ext cx="2100960" cy="1123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able2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" name="_s1036"/>
            <p:cNvSpPr/>
            <p:nvPr/>
          </p:nvSpPr>
          <p:spPr>
            <a:xfrm>
              <a:off x="4134240" y="3300120"/>
              <a:ext cx="2100960" cy="1123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able3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" name="_s1037"/>
            <p:cNvSpPr/>
            <p:nvPr/>
          </p:nvSpPr>
          <p:spPr>
            <a:xfrm>
              <a:off x="6585480" y="3300120"/>
              <a:ext cx="2100960" cy="1123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able2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" name="_s1038"/>
            <p:cNvSpPr/>
            <p:nvPr/>
          </p:nvSpPr>
          <p:spPr>
            <a:xfrm>
              <a:off x="457200" y="4985640"/>
              <a:ext cx="2100960" cy="1123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able3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" name="_s1039"/>
            <p:cNvSpPr/>
            <p:nvPr/>
          </p:nvSpPr>
          <p:spPr>
            <a:xfrm>
              <a:off x="2908080" y="4985640"/>
              <a:ext cx="2100960" cy="1123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able3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" name="_s1040"/>
            <p:cNvSpPr/>
            <p:nvPr/>
          </p:nvSpPr>
          <p:spPr>
            <a:xfrm>
              <a:off x="6585480" y="4985640"/>
              <a:ext cx="2100960" cy="1123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able3</a:t>
              </a: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BAC8-E50D-4D18-AA53-263F95A7BB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e Movement Requir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ving” a tree means changing the value of it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nager_i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ie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nager_i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ique_identifi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ersion_i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orm a database-wide composite k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record new to a Manager may have to have one of its other values changed to preserve unique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ly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nique_identifie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updated by the appli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ent-child relationships must be preserv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arent_i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will also be changed when parent’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nique_identifier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chang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33D9-9244-4330-9316-9F848FC8A6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ser requir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r must be able to specify which tables and Managers are balanc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ired Managers may include some, all, or none of the current Manag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balanc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number of movable trees associated with current but not desired Managers must be ze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number of trees associated with each Manager should be roughly equ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FAE9-8B13-46EB-AB40-D701E5A245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ser requirements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tables may not contain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ent_i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ent_version_i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iel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pplication must handle both cases, without the user having to specify the type of each 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assumptions can be made about the location of child and parent reco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table may contain both child and parent reco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/4/2008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9C92-876F-46FC-9320-22C7AA35C2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oftware/performance requiremen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acle datab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programming language requir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xt-only interface requi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performance crit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bles may have millions of reco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uld be able to process records in the low millions within no more than five hou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2:37:59Z</dcterms:created>
  <dc:creator>asdf</dc:creator>
  <dc:description/>
  <dc:language>en-US</dc:language>
  <cp:lastModifiedBy>asdf</cp:lastModifiedBy>
  <dcterms:modified xsi:type="dcterms:W3CDTF">2008-11-05T04:35:03Z</dcterms:modified>
  <cp:revision>39</cp:revision>
  <dc:subject/>
  <dc:title>Test-driven development and testing of a performance-critical database record-tree balancing application</dc:title>
</cp:coreProperties>
</file>